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4142880" y="0"/>
            <a:ext cx="3170520" cy="48096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257120" y="718920"/>
            <a:ext cx="4802040" cy="3601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5760" rIns="95760" tIns="47880" bIns="478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0" y="9118080"/>
            <a:ext cx="317016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4142880" y="9118080"/>
            <a:ext cx="3170520" cy="4813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600" bIns="48600" anchor="b">
            <a:noAutofit/>
          </a:bodyPr>
          <a:lstStyle>
            <a:lvl1pPr marL="216000"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69B08C48-DA2F-4B22-82BA-F1011F69577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A0267CDB-18FA-4E79-8226-0E6D5E1E31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212C20D1-2685-4357-A3E4-554785CBB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F38CB050-7C6B-494B-B4FD-59E88599C2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33E6465D-45B4-4548-9D97-530F36050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FF34E012-FC64-4531-B001-CB019066A1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5EB1A317-091B-485D-A4E4-CEB2346028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7D5543E7-3BBD-4183-A964-9B66498C63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52DBED3D-D0AC-43B0-A275-6927449D94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1716FA13-A059-45F3-8E67-F4B4E96A76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427A6019-1E75-41C9-81F7-977F62B27C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AD4E2CB5-15F0-48BF-B042-FFD226B8180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B6FEAFE3-6A56-4374-9474-8A5C4F301B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C8268E66-7C35-47DA-8A45-DB869131CA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D6450A76-2C3C-44DE-AE9E-00D7461435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1AC17739-E77F-45D2-B63A-8C94C6D6E8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2F215188-D50B-4F9E-A95B-0F8E84724B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29F28509-452B-4A4F-82C5-205C974674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4143240" y="9118440"/>
            <a:ext cx="3170520" cy="4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600" bIns="48600" anchor="b">
            <a:noAutofit/>
          </a:bodyPr>
          <a:p>
            <a:pPr algn="r"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fld id="{43137949-013B-47E6-AF0F-7BABEA8FCB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257480" y="719280"/>
            <a:ext cx="4802040" cy="36018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D5CF-2E5F-4324-9079-226DB1124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B474-CC33-40B1-9859-380131EFA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6C75-303B-4EC9-A1DF-CA75F809C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3177-D08E-465E-92D3-FF3330837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4C99-9304-4246-98C0-A8D3B5D40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9752-D5B2-4ADF-805A-49376975E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EE986-C477-41CD-B500-5B8CCCBD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BFB9A-637A-48B6-92EA-2A04A0333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EFB2B-7F40-48B2-9554-1FB445A29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CCFC-6CDC-4CE3-A79D-614C7478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1C37-569B-439A-839A-6DE4CF1D0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00EF-F8AE-4174-BDA6-C79EF7F8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53CC6-6E4E-4C73-B972-09BC12A60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2C9B-67E0-4697-B646-EA52F761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5C84C-FC75-4E77-971A-55B657B2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2CA49-52F9-4603-BECD-803AEC0C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47C3-ECD6-4CE1-B149-689EEEB522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A73A-3F3A-414B-8501-45EC14EB5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8B3F-5B6C-493B-8008-BE74CCFB3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0B6C-C526-4EA6-9A19-BA51A7FBD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B1541-1A40-4425-A29D-0C254A4E8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6D91-B283-4872-B3F4-F67D011AA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B6F4-E444-4EBC-A9FC-D56EA98FD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2003-165C-4C6F-B5EF-0C9F6615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23DD-53CB-4DAF-8690-020AAB91866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750E-6EC9-4F89-ACBF-E62430ABC7E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427040"/>
            <a:ext cx="85345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Kristen ITC"/>
              </a:rPr>
              <a:t>Geometry Math Center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9" descr="j0323756"/>
          <p:cNvPicPr/>
          <p:nvPr/>
        </p:nvPicPr>
        <p:blipFill>
          <a:blip r:embed="rId1"/>
          <a:stretch/>
        </p:blipFill>
        <p:spPr>
          <a:xfrm>
            <a:off x="4876920" y="3429000"/>
            <a:ext cx="2606400" cy="28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anksgiving Transformations Material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 cut-o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nk index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Leafy Grid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ch player should select 5 fall pictures and place them on their coordinate gr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yers take turns calling-out ordered pairs.  If a player names the correct location of a fall item, it is rem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inner is the first player to locate all 5 of their partner’s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4" descr="j0250169"/>
          <p:cNvPicPr/>
          <p:nvPr/>
        </p:nvPicPr>
        <p:blipFill>
          <a:blip r:embed="rId1"/>
          <a:stretch/>
        </p:blipFill>
        <p:spPr>
          <a:xfrm>
            <a:off x="6553080" y="5254560"/>
            <a:ext cx="25909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afy Grids Materi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grids—paper, cookie sheets, box lids, poster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 items—attached with magnets, velcro, tape, or drawn on 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3-Dimensional Fu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mplete the following activities to explore 3-D sha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rt the 3-D shape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at groups can you create?                                            Sort the shapes again.  Can you create different group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y “Mystery Shape” with a frie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ithout your partner looking, hide a 3-D shape in a bag.  Have your partner reach in the bag and feel the shape.  Can they guess what shape is in the ba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j0290350"/>
          <p:cNvPicPr/>
          <p:nvPr/>
        </p:nvPicPr>
        <p:blipFill>
          <a:blip r:embed="rId1"/>
          <a:stretch/>
        </p:blipFill>
        <p:spPr>
          <a:xfrm>
            <a:off x="7072200" y="1371600"/>
            <a:ext cx="2071800" cy="17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3-Dimensional Fu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e 3-D shapes with the materials provi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rshmallows &amp; toothpi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umdrops &amp; toothpi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y &amp; toothpi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ire &amp; stra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ipeclea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Geoblock Match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tch the 3-Dimensional blocks with each f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-D Scavenger H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arch around the room to find 3-D shapes.  Which shapes are easier to find?  Why do you think these shapes are easier to fin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5"/>
          <p:cNvSpPr/>
          <p:nvPr/>
        </p:nvSpPr>
        <p:spPr>
          <a:xfrm>
            <a:off x="5715000" y="2438280"/>
            <a:ext cx="1752480" cy="914400"/>
          </a:xfrm>
          <a:prstGeom prst="cube">
            <a:avLst>
              <a:gd name="adj" fmla="val 25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6"/>
          <p:cNvSpPr/>
          <p:nvPr/>
        </p:nvSpPr>
        <p:spPr>
          <a:xfrm>
            <a:off x="6705720" y="3200400"/>
            <a:ext cx="1218960" cy="114300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1867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ffffff"/>
                </a:solidFill>
                <a:latin typeface="Comic Sans MS"/>
              </a:rPr>
              <a:t>Triangle Investigation</a:t>
            </a:r>
            <a:endParaRPr b="0" lang="en-US" sz="5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457200" y="1523880"/>
            <a:ext cx="81532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the chenille stems to try to make triangles.  Cut the chenille stems to the length listed on the investigation sheet.  Is it possible to make each triang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conjectures can you make about the length of triang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3733920" y="5105520"/>
            <a:ext cx="1676160" cy="1295280"/>
          </a:xfrm>
          <a:prstGeom prst="triangle">
            <a:avLst>
              <a:gd name="adj" fmla="val 50000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6"/>
          <p:cNvSpPr/>
          <p:nvPr/>
        </p:nvSpPr>
        <p:spPr>
          <a:xfrm>
            <a:off x="4952880" y="4876920"/>
            <a:ext cx="1752840" cy="1066680"/>
          </a:xfrm>
          <a:prstGeom prst="rtTriangl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6934320" y="4572000"/>
            <a:ext cx="1066680" cy="198108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8"/>
          <p:cNvSpPr/>
          <p:nvPr/>
        </p:nvSpPr>
        <p:spPr>
          <a:xfrm rot="7212600">
            <a:off x="1752480" y="5410080"/>
            <a:ext cx="1447920" cy="1447920"/>
          </a:xfrm>
          <a:prstGeom prst="rtTriangl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ffffff"/>
                </a:solidFill>
                <a:latin typeface="Comic Sans MS"/>
              </a:rPr>
              <a:t>Perplexing Polygon Puzzles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omplete the polygon puzzles and designs using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entomino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angra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Pattern Blo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j0232910"/>
          <p:cNvPicPr/>
          <p:nvPr/>
        </p:nvPicPr>
        <p:blipFill>
          <a:blip r:embed="rId1"/>
          <a:stretch/>
        </p:blipFill>
        <p:spPr>
          <a:xfrm>
            <a:off x="5867280" y="2743200"/>
            <a:ext cx="23418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Polygons with Triangl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9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rrange the triangles to make as many polygons as you can.  Sort the polygons and glue your designs to a large poster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4"/>
          <p:cNvSpPr/>
          <p:nvPr/>
        </p:nvSpPr>
        <p:spPr>
          <a:xfrm>
            <a:off x="5181480" y="4572000"/>
            <a:ext cx="1447920" cy="137160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5"/>
          <p:cNvSpPr/>
          <p:nvPr/>
        </p:nvSpPr>
        <p:spPr>
          <a:xfrm>
            <a:off x="6705720" y="4572000"/>
            <a:ext cx="1447560" cy="137160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6"/>
          <p:cNvSpPr/>
          <p:nvPr/>
        </p:nvSpPr>
        <p:spPr>
          <a:xfrm rot="10800000">
            <a:off x="5943600" y="4572000"/>
            <a:ext cx="1447920" cy="137160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838080" y="4114800"/>
          <a:ext cx="3505320" cy="1638360"/>
        </p:xfrm>
        <a:graphic>
          <a:graphicData uri="http://schemas.openxmlformats.org/drawingml/2006/table">
            <a:tbl>
              <a:tblPr/>
              <a:tblGrid>
                <a:gridCol w="1371600"/>
                <a:gridCol w="2133720"/>
              </a:tblGrid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iang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adrilater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ntag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xag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Polygon Design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e a variety of figures using the materials provided.  Once you have created several shapes, sort them into groups based on their attribu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ateria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Yarn &amp; g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othpicks &amp; g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eoboards &amp; rubberband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4"/>
          <p:cNvSpPr/>
          <p:nvPr/>
        </p:nvSpPr>
        <p:spPr>
          <a:xfrm>
            <a:off x="6705720" y="4343400"/>
            <a:ext cx="990360" cy="91440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7010280" y="4952880"/>
            <a:ext cx="990720" cy="990720"/>
          </a:xfrm>
          <a:prstGeom prst="triangle">
            <a:avLst>
              <a:gd name="adj" fmla="val 50000"/>
            </a:avLst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6"/>
          <p:cNvSpPr/>
          <p:nvPr/>
        </p:nvSpPr>
        <p:spPr>
          <a:xfrm>
            <a:off x="6095880" y="5334120"/>
            <a:ext cx="762120" cy="7617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ffff"/>
                </a:solidFill>
                <a:latin typeface="Comic Sans MS"/>
              </a:rPr>
              <a:t>Pumpkin Nim</a:t>
            </a:r>
            <a:r>
              <a:rPr b="0" lang="en-US" sz="4200" spc="-1" strike="noStrike">
                <a:solidFill>
                  <a:srgbClr val="ffffff"/>
                </a:solidFill>
                <a:latin typeface="Kristen ITC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ire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yers take turns placing one pattern block piece at a time until the pumpkin is cover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erson who fills in the last hexagon wi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y again and change the rules so that the loser is the one who covers the last hexag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j0335889"/>
          <p:cNvPicPr/>
          <p:nvPr/>
        </p:nvPicPr>
        <p:blipFill>
          <a:blip r:embed="rId1"/>
          <a:stretch/>
        </p:blipFill>
        <p:spPr>
          <a:xfrm>
            <a:off x="5867280" y="380880"/>
            <a:ext cx="205740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Apple Nim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ire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yers take turns placing one pattern block piece at a time until the apple is cover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erson who fills in the last space wi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y again and change the rules so that the loser is the one who covers the last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j0344872"/>
          <p:cNvPicPr/>
          <p:nvPr/>
        </p:nvPicPr>
        <p:blipFill>
          <a:blip r:embed="rId1"/>
          <a:stretch/>
        </p:blipFill>
        <p:spPr>
          <a:xfrm>
            <a:off x="5562720" y="304920"/>
            <a:ext cx="162216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im Materials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mpkin Nim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e Nim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easonal Symmetry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8224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lnSpc>
                <a:spcPct val="10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ort the fall pictures into 4 groups.           1 – Has line symmetry                               2 – Has rotational symmetry                           3 – Has both line and rotational symmetry                                                 4 – Not symmetrical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Draw or use the pattern blocks to create four designs -- one to fit each category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actice using the mira                      and mirrors to find               symmetrical designs.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j0280635"/>
          <p:cNvPicPr/>
          <p:nvPr/>
        </p:nvPicPr>
        <p:blipFill>
          <a:blip r:embed="rId1"/>
          <a:stretch/>
        </p:blipFill>
        <p:spPr>
          <a:xfrm>
            <a:off x="5791320" y="4952880"/>
            <a:ext cx="2133360" cy="1704960"/>
          </a:xfrm>
          <a:prstGeom prst="rect">
            <a:avLst/>
          </a:prstGeom>
          <a:ln w="0">
            <a:noFill/>
          </a:ln>
        </p:spPr>
      </p:pic>
      <p:sp>
        <p:nvSpPr>
          <p:cNvPr id="111" name="Line 5"/>
          <p:cNvSpPr/>
          <p:nvPr/>
        </p:nvSpPr>
        <p:spPr>
          <a:xfrm>
            <a:off x="6858000" y="4876920"/>
            <a:ext cx="0" cy="198108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easonal Symmetry Activities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 cut-outs and 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 materials—crayons, marker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Fabulous Fall Ar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e a scarecrow using only polygons.  Record the name of     each polygon used in your des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e a fall picture using pattern blocks.  Trace and color the design on construction paper.  Find the total fractional amount of your design (Hexagon = 1) and record at the bottom of your pictur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j0285614"/>
          <p:cNvPicPr/>
          <p:nvPr/>
        </p:nvPicPr>
        <p:blipFill>
          <a:blip r:embed="rId1"/>
          <a:stretch/>
        </p:blipFill>
        <p:spPr>
          <a:xfrm>
            <a:off x="6858000" y="228600"/>
            <a:ext cx="198432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abulous Fall Art Materials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metric shapes precu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ion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e or glue st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rs, crayons, or colored penc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Thanksgiving Transform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actice reflections, translations, and rotations using the fall cut-outs.    Try to stump your partner—create a transformation and see if your partner can correctly identify it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oose one and glue to a note car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view the note cards created so far and determine if the transformation is a reflection, translation, or                  rota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j0228933"/>
          <p:cNvPicPr/>
          <p:nvPr/>
        </p:nvPicPr>
        <p:blipFill>
          <a:blip r:embed="rId1"/>
          <a:stretch/>
        </p:blipFill>
        <p:spPr>
          <a:xfrm>
            <a:off x="6324480" y="5181480"/>
            <a:ext cx="1600200" cy="15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02:04:20Z</dcterms:created>
  <dc:creator>Randolph County Schools</dc:creator>
  <dc:description/>
  <dc:language>en-US</dc:language>
  <cp:lastModifiedBy>Ana Flyod</cp:lastModifiedBy>
  <dcterms:modified xsi:type="dcterms:W3CDTF">2008-11-04T21:30:04Z</dcterms:modified>
  <cp:revision>23</cp:revision>
  <dc:subject/>
  <dc:title>Slide 1</dc:title>
</cp:coreProperties>
</file>